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D33-2BBD-4B35-BF8D-123E9231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B3C-DF63-46D7-A2E6-1A0A3BA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CCE-2922-4C8C-BDC3-8F005D73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075-0FA3-4A59-AF24-3885AF84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07B8-09F5-41CB-B30D-47223CEF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6291-7B8D-49C0-ACAC-EBD13E1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220C-9D7A-4172-AA39-1FDB3A2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499F-CA3F-48AF-B8A9-E40A4D98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DCBA-117D-49E6-A0DE-BB673D3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C0D-4A58-4B1B-8F5B-1AF1F60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7E8-0CE8-409E-A806-F441921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D9E-121F-4FC2-A2EE-623A8EBF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C2B7-AA50-47C3-B8C5-D0163F21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B31-B784-4544-BD77-D6AC1BD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9AD-4A52-4F44-BD96-A7C9F7B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A81-A246-4360-9E46-C6FC7F89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6545-10C2-4248-8FFD-04A21ED1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E63-CCBC-4AF2-A384-FCE076B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295-2C2B-452F-90B6-9FE1ACC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A4-E1DE-4190-B245-63AFA5E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AA6-AEE7-4527-9EE9-38C9B8F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F72-F427-4704-8C92-5A37D7E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3F2-0F9D-4AF0-8147-4E4B767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177-EA97-4D39-B0DA-3BAF01B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7FD2-16C4-4E28-A258-DC4A4E707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8B8-12F7-437B-A076-E72B9A52D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3 eVLBI Scienc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Conway, EXPReS Board meeting, Utrech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 30th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ture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face-to-face eVSAG meeting is a deliverable, around May 20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liverable, EXPReS Science conference, optimum 4 months before project end, November, in Crete??  Or later if we extend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we extend scope slightly to ‘Real time Long Baseline radio astronomy’ – all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FAR, eMERLIN etc etc input as well EXPReS, help eVLBI reach wider audienc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ear 2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revision of  rules for ‘call for proposals’ before June 1st 2007 dead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flexible ToO policy agreed with CBD, May/Nov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 advertising campaign for Feb 1st deadline (initiated by management te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eVLBI science conference, Nov 2008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 Mechanisms (I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Rules’ (before June 2007), a specific proposal deadline 2 weeks before each r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Rules’, June 1st, Oct 1st, Feb 1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General proposals, any purpose, inc monitoring, allow spectral line,18,6,5,1.3c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iggered proposals, to be activated within 24hrs of a run based on a trigger condition being fulf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ort obs (&lt;3hr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 Mechanisms (II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of Opportunity rules, agreed CBD May 2007 (led by group headed by Richard Porcas)- broadened slightly Nov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deas for proposal rules discussed at eVSAG – but leave for 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s/Scheduled 200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nuary 2007: 1/1                           Project year 1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ruary 2007: 1/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h 2007: 1/2                             Project year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ne 2007 (old rule): 1/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June 2007 (new rule): 1/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007: 1/1  --&gt;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October 2007: 1/1 (approved but not yet schedu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it is a   triggered propos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 February 2008, ?/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so far 5/8 in Project year 2,  (compared to 9/13 for last ye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007 Observ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R001, PI: Rushton, observed 29 Janu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T001, PI: Tudose, observed 21 Febru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M001, PI: Marti, observed 28 Mar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L001, PI: Langevelde, observed 21 Aug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P007, PI: Paragi, observed 6 September, To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P006S, PI: Pandey, observed 6 Septe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so Australian obs of SN1987A, correlated at JIVE (not eEVN) , Tingay paper in pr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p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567440"/>
            <a:ext cx="10215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(Proc. Burst, Pulses and Flickering: Wide-field monitoring of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dynamic radio sky, 12-15 June 2007, Kerastari, Greec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Z. Paragi, H.J. van Langevelde, A. Szomor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Targeting transient phenomena with e-VLBI PoS(Dynamic2007)026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M. Pandey, Z. Paragi, P. Durouchoux, H. Bignal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High resolution imaging of possible microquasar’, PoS(Dynamic2007)0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Rushton, R. Spencer Adaptive e-VLBI observations of radio emit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X-ray binaries’. PoS(Dynamic2007)04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From planets to dark energy: the modern radio universe) proceeding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Z. Paragi, Sz. Csizmadia, T. Borkovits, L. Mosoni, L. Sturmann, P. Abraham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. Garret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ARA and e-VLBI observations of Algol’,  PoS(MRU)122 (subitted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bert et al 2008,  astro-ph 0801.3150 'Multi-wavelength (radio, X-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gamma-ray) observations of the Gamma ray binary LSI +61 303‘, AJ in pre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437000"/>
            <a:ext cx="66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661000"/>
            <a:ext cx="655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bert et al 200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6000" y="2276640"/>
            <a:ext cx="89280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-Tel telegram Paragi et 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388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1:17:53Z</dcterms:created>
  <dc:creator> </dc:creator>
  <dc:description/>
  <dc:language>en-US</dc:language>
  <cp:lastModifiedBy>John Conway</cp:lastModifiedBy>
  <dcterms:modified xsi:type="dcterms:W3CDTF">2008-01-30T07:19:27Z</dcterms:modified>
  <cp:revision>27</cp:revision>
  <dc:subject>NORDUnet Vision &amp; Strategy</dc:subject>
  <dc:title>Slide 1</dc:title>
</cp:coreProperties>
</file>